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B568-D06E-4F06-AE29-DE2D2052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78B9-683D-44A1-9CAB-2A5A18B9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AD5A-0F57-4714-8507-580F2DA9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C214-1100-4ED8-A73D-E6F3E85E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F029-3F6E-4559-BF34-9CE91616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0D7D-B594-4D4C-8142-19FDF4B8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917-8F15-4635-BBCD-71EB29FB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A4BA-C82A-4106-9895-91BF6612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F029-A3D5-40C9-84ED-A71D9C68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02A6-38FF-4F89-A184-4D91E031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58A4-A242-4400-BE8A-83DF9C62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C0F0-1748-4409-AF8F-D474B19A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003c"/>
            </a:gs>
            <a:gs pos="100000">
              <a:srgbClr val="5a001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BE9F-D245-430D-86E2-958B761EF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003c"/>
            </a:gs>
            <a:gs pos="100000">
              <a:srgbClr val="5a001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Love the Lo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99920" y="434340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 and Music by Lincoln Brew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Copyright 2005 Integrity’s Praise! Music (BMI) (c/o Integrity Media, Inc., 1000 Cody road, Mobile, AL 3660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rights reserved. Used by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CLI # 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48720" y="603396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56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003c"/>
            </a:gs>
            <a:gs pos="100000">
              <a:srgbClr val="5a001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th all my hear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th all my soul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th all my min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th all my strength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repea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003c"/>
            </a:gs>
            <a:gs pos="100000">
              <a:srgbClr val="5a001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will serve You, Lor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th all my heart, with all my sou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th all my min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with all my strength</a:t>
            </a:r>
            <a:br>
              <a:rPr sz="44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ing 3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003c"/>
            </a:gs>
            <a:gs pos="100000">
              <a:srgbClr val="5a001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ve the Lord, Your God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ith all your heart, with all your soul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ith all your mind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nd with all your streng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4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repea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003c"/>
            </a:gs>
            <a:gs pos="100000">
              <a:srgbClr val="5a001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th all your hear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th all your soul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th all your min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th all your streng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003c"/>
            </a:gs>
            <a:gs pos="100000">
              <a:srgbClr val="5a001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ve the Lord, your God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ith all your heart, with all your soul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ith all your mind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nd with all your strengt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003c"/>
            </a:gs>
            <a:gs pos="100000">
              <a:srgbClr val="5a001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I will serve the Lord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with all my heart, with all my soul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with all my mind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nd with all my strength</a:t>
            </a:r>
            <a:br>
              <a:rPr sz="46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repea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003c"/>
            </a:gs>
            <a:gs pos="100000">
              <a:srgbClr val="5a001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th all my hear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th all my soul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th all my min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th all my streng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003c"/>
            </a:gs>
            <a:gs pos="100000">
              <a:srgbClr val="5a001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I will serve the Lord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with all my heart, with all my soul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with all my mind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nd with all my strength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003c"/>
            </a:gs>
            <a:gs pos="100000">
              <a:srgbClr val="5a001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 will love You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I will love You)</a:t>
            </a:r>
            <a:br>
              <a:rPr sz="40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 will praise You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I will praise You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003c"/>
            </a:gs>
            <a:gs pos="100000">
              <a:srgbClr val="5a001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 will serve You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I will serve You)</a:t>
            </a:r>
            <a:br>
              <a:rPr sz="40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 will trust You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I will trust You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TERRY</cp:lastModifiedBy>
  <dcterms:modified xsi:type="dcterms:W3CDTF">2008-07-04T16:53:28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